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24.gif" ContentType="image/gif"/>
  <Override PartName="/ppt/media/image8.png" ContentType="image/png"/>
  <Override PartName="/ppt/media/image6.jpeg" ContentType="image/jpeg"/>
  <Override PartName="/ppt/media/image25.png" ContentType="image/pn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0C8-391B-4A1D-88A2-624BC3372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678-1763-4FE8-A735-976740610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BAE-21A0-4A38-B606-2C5F46C537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0E79-67C8-47F7-B4F7-D7E6DFCFD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80B4-F1BF-4A23-96CC-1EB853E570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C237-9398-4413-8939-06C9F7A87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DC6E-370D-4B29-9061-C3CEE65A2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0CF8-3A5F-4D80-82A5-EFE2707208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5D3-C3F9-494C-BE37-3ACACEDEB3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6D0-B1ED-436D-80AB-7998DD00EA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CF38-B27B-4A5E-A49E-64AEA06102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2CED-C8E7-44DC-B19F-0735063332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F25-70C3-438C-8094-D08B0606F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A828-E166-4437-8C02-ABA76CCDE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7152-8A4D-452B-95D4-B0478071F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7F1-8133-4484-9D1F-64517DC9D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EE5-D841-490B-9BF2-41F55A26F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B2E3-6D25-42A1-9BDD-563396A4C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D75-8E84-4ADB-B665-22A21766CC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659-20E4-4A6A-BA78-842832A07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EC9-DF7D-4A51-A115-B843E46BE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04D1-C52D-4986-98B1-CDDD11633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E22-696F-4497-8D81-1F0057FAF2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3940-55C1-412C-9D72-9EC949E4C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835-1145-4D58-9751-BDD4C4DC8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0FBD-B19D-46D2-ACF4-14534E011C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F41-455F-4E40-A47A-AF97E04AC8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ED34-8126-413D-BA56-377B61259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C97D-E52A-4BE8-8011-7B07A9084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3A20-DB98-4C41-8AAE-03719B366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60E-2FA9-4855-87A8-0999038D0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5EA-B437-4064-A4D1-1037044963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5AF-ED8E-42C6-AFB4-4BCF53DA9F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EB1-0733-4DDC-9A73-FF19C3C39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E2BA-9DB9-453D-84F5-AA5926A7A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C8F1-F603-4EBD-AED8-485FB61B18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593-0EA1-4EBB-88E7-20E13C114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BC66-61B8-4B29-9619-F216CC29F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E1A0-6E96-4D63-B6A3-712F1EABB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82B8-3761-4A95-ABBF-6ED174D5EB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43EC-8235-4678-A126-35E88C69E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9F31-565B-4669-90EA-31FE99A57D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AB19-D865-40EC-8DB5-0B4A51562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8E0F-C24B-4B09-B11D-E78DCE80B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AED-4E31-4D8D-A842-84F84B223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63E-63EC-4DAC-81A8-8DAB6C661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6FD-FFEF-452C-9EE5-8D483EF695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0F3C-7085-4772-9C8C-C1F54596F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EFC5-2CDC-4ED9-B281-519F45649B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4956-5DA2-4FE7-AFFD-46ECF6D6A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658-F098-426A-91F4-FF555D911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E44D-C049-46C8-BE8D-61C60C900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CD46-C9B2-4883-97BE-5F64A3CCE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478-1630-4566-9BCE-594D14AE6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16A-4207-49C2-80C7-9BC898B631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344-80C3-42B8-A8B4-B6F54E2FBE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449F-2B88-46F6-9A84-F4DE718B71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722C-C49C-43D6-BFCD-608A110CC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180F-C090-4BA1-884F-0C16A3C1F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3AE-06B5-434D-A162-C7A8C6146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9BF-8F75-4EB3-8E5D-9B7C6CAFC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2F9-A156-4D62-84E8-540EECE2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EAB-27C7-4355-9FF2-55FD628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099-F860-4389-994C-AEA12783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A5C-8AE5-4CCD-9653-B3ADE436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401B-93E2-4203-BAEA-4190AF3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BBCF1-CE82-404F-B2CF-CFEB4FC4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AF237-46F3-4EFD-913F-4191F979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96F0B-A963-443C-A42F-C6AAF60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993E9-057B-4225-A724-450E450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FA56C-3DC0-4F2D-BD42-5043A63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084A7-5DB5-4CDF-9ED9-70978CC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66B-B223-4AA4-9CFF-A6044461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B84D4-F6D7-4344-9DBE-804F693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0EDC9-6CB9-4740-8A0D-20D8F51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99B9D-B937-415D-9CC6-B22E4AE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6AB4F-4015-4311-B878-6F2DAAF2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A425D-A56A-47B9-B8D3-AE4C8A30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51B-5614-4B9D-8C8F-1775BC62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11F-B712-4CF1-9EC7-200A6974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C67-9A5C-4DBA-A7D4-A81A44F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4FC-1805-4DAF-A5B6-4395E53F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2FA-0AAC-43ED-9785-88728D3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ED9-C31C-4ACA-AE22-4FB04606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8F4-A213-4B82-8AA3-358C250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F88-2F1E-46BE-B8E7-7646FE0A36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1FAA-CF57-4FD0-BC36-6A6BA7CF29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orgia High School Graduation T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ience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cells organiz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issu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cell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tissue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 Syste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organ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is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group of organ systems functioning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homeosta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ost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ady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f-adjusting mechanism that helps to maintain your internal environ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transport materia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ffu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movement of materials form a higher concentration to a lower concentr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smos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iffusion of water through a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transport materia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the movement of materials that does not require energ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usion, osmosis, facilitated diff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s the use of energy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m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chemicals of lif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219320"/>
          <a:ext cx="8839080" cy="4743360"/>
        </p:xfrm>
        <a:graphic>
          <a:graphicData uri="http://schemas.openxmlformats.org/drawingml/2006/table">
            <a:tbl>
              <a:tblPr/>
              <a:tblGrid>
                <a:gridCol w="2666880"/>
                <a:gridCol w="1995480"/>
                <a:gridCol w="2292480"/>
                <a:gridCol w="1884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ilding Bloc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hydr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sugar,st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-saccharid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er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p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butter, 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tty Acids &amp; glyce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er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te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meat, chee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,N,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ino Ac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ructure, growth &amp; rep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cleic Ac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-DNA,R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,H,O,N,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cleotid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tic Infor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4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divi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mitosis as cycle"/>
          <p:cNvPicPr/>
          <p:nvPr/>
        </p:nvPicPr>
        <p:blipFill>
          <a:blip r:embed="rId1"/>
          <a:stretch/>
        </p:blipFill>
        <p:spPr>
          <a:xfrm>
            <a:off x="2514600" y="1066680"/>
            <a:ext cx="4381560" cy="5257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 cells divi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Meiosis"/>
          <p:cNvPicPr/>
          <p:nvPr/>
        </p:nvPicPr>
        <p:blipFill>
          <a:blip r:embed="rId1"/>
          <a:stretch/>
        </p:blipFill>
        <p:spPr>
          <a:xfrm>
            <a:off x="838080" y="1270080"/>
            <a:ext cx="7239240" cy="480672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re Does A Cell Get Energy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 cellular respiration, glucose is broken down to a form the cell can u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tra energy is stored in an ATP molecule (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enosine triphosphate)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photosynthe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photosynthesis"/>
          <p:cNvPicPr/>
          <p:nvPr/>
        </p:nvPicPr>
        <p:blipFill>
          <a:blip r:embed="rId1"/>
          <a:stretch/>
        </p:blipFill>
        <p:spPr>
          <a:xfrm>
            <a:off x="2514600" y="1600200"/>
            <a:ext cx="4397400" cy="45720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photosynthe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 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ccurs in chloroplas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par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vin cycle (dark reactio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ontent is covered on the tes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science test is comprised of five domain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lls &amp; Heredity (25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cology (17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ucture and Properties of matter (26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ergy Transformations (16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s, Waves, &amp; Electricity (16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1360" y="350640"/>
            <a:ext cx="76280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Respira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rocess of breaking down food molecules to release energ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ccurs in the mitochondri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type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erobic – requires oxyge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erobic – requires an absence of oxyge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+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DN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A contains the blueprint for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otides are the building blo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a deoxyribose sugar,  phosphate group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b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nine - Thy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sine - Guan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DNA &amp; RNA Differ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oxyribos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 stran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b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c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stran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es DNA control Protein Synthesi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anscrip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NA copies the message from DNA in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a protein by translating the message on RNA into an amino acid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levels of organization of ecolog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pu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group of 1 species living in the same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un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 group of interacting pop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osystem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the community and its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o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group of ecosystems with the same commun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osphe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e circle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53360"/>
            <a:ext cx="8837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  <a:ea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41200" y="665280"/>
            <a:ext cx="8661600" cy="58118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858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33720" y="3733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9528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es matter &amp; energy flow in an ecosyst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Chains – one path of energy flo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Webs – complex model that expresses all the possible feeding relationships in a commun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702" b="3898"/>
          <a:stretch/>
        </p:blipFill>
        <p:spPr>
          <a:xfrm>
            <a:off x="2362320" y="609480"/>
            <a:ext cx="4038480" cy="56390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yramid of energy, numbers, or bio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pyramid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4492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HSGT Chemist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log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S1. Students will investigate our current understanding of the ato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57200" y="1828800"/>
            <a:ext cx="8229600" cy="4618080"/>
            <a:chOff x="457200" y="1828800"/>
            <a:chExt cx="8229600" cy="4618080"/>
          </a:xfrm>
        </p:grpSpPr>
        <p:sp>
          <p:nvSpPr>
            <p:cNvPr id="152" name="Rectangle 4"/>
            <p:cNvSpPr/>
            <p:nvPr/>
          </p:nvSpPr>
          <p:spPr>
            <a:xfrm>
              <a:off x="66294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ocatio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45720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as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25146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harg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57200" y="182880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66294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Outside nucleus in electron clou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45720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0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5146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457200" y="4648320"/>
              <a:ext cx="20574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lectron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66294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ucleu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45720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 amu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25146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eutral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457200" y="36576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eutron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66294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nucleus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45720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 amu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25146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+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457200" y="2514600"/>
              <a:ext cx="2057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roton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>
              <a:off x="457200" y="18288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>
              <a:off x="457200" y="36576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22"/>
            <p:cNvSpPr/>
            <p:nvPr/>
          </p:nvSpPr>
          <p:spPr>
            <a:xfrm>
              <a:off x="457200" y="46483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23"/>
            <p:cNvSpPr/>
            <p:nvPr/>
          </p:nvSpPr>
          <p:spPr>
            <a:xfrm>
              <a:off x="457200" y="644688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24"/>
            <p:cNvSpPr/>
            <p:nvPr/>
          </p:nvSpPr>
          <p:spPr>
            <a:xfrm>
              <a:off x="457200" y="1828800"/>
              <a:ext cx="0" cy="4618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2514600" y="1828800"/>
              <a:ext cx="0" cy="461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4572000" y="1828800"/>
              <a:ext cx="0" cy="461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6629400" y="1828800"/>
              <a:ext cx="0" cy="461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8686800" y="1828800"/>
              <a:ext cx="0" cy="4618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4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’s Energy Lev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419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Bohr model there were distinct energy levels where electrons could ex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ergy level holds 2 electr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ergy level holds 8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ergy level holds 8 then 18 after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evel gets 2 electr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bohr model"/>
          <p:cNvPicPr/>
          <p:nvPr/>
        </p:nvPicPr>
        <p:blipFill>
          <a:blip r:embed="rId1"/>
          <a:stretch/>
        </p:blipFill>
        <p:spPr>
          <a:xfrm>
            <a:off x="5410080" y="2112840"/>
            <a:ext cx="2870280" cy="2765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943600" y="60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488560" y="51055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lement is th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dern View of the Atom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92904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reg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us- protons and neutr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 cloud- region where you might find an elect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Electron CLoud"/>
          <p:cNvPicPr/>
          <p:nvPr/>
        </p:nvPicPr>
        <p:blipFill>
          <a:blip r:embed="rId1"/>
          <a:stretch/>
        </p:blipFill>
        <p:spPr>
          <a:xfrm>
            <a:off x="4419720" y="1447920"/>
            <a:ext cx="4724280" cy="31906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number of  protons in an atom of a particular element is its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tomic numb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ach element has a different atomic numb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Cj02265640000[1]"/>
          <p:cNvPicPr/>
          <p:nvPr/>
        </p:nvPicPr>
        <p:blipFill>
          <a:blip r:embed="rId1"/>
          <a:stretch/>
        </p:blipFill>
        <p:spPr>
          <a:xfrm>
            <a:off x="5410080" y="76212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Cj02265060000[1]"/>
          <p:cNvPicPr/>
          <p:nvPr/>
        </p:nvPicPr>
        <p:blipFill>
          <a:blip r:embed="rId2"/>
          <a:stretch/>
        </p:blipFill>
        <p:spPr>
          <a:xfrm>
            <a:off x="5410080" y="3276720"/>
            <a:ext cx="3375000" cy="24098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tons and neutrons are responsible for most of the atomic mass of an atom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number of protons and neutrons in an atom are the mass number of that at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member to use the Periodic Table provided on the Te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GA Periodic Table March 2005-1"/>
          <p:cNvPicPr/>
          <p:nvPr/>
        </p:nvPicPr>
        <p:blipFill>
          <a:blip r:embed="rId1"/>
          <a:stretch/>
        </p:blipFill>
        <p:spPr>
          <a:xfrm>
            <a:off x="762120" y="1295280"/>
            <a:ext cx="800100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295280" y="304920"/>
            <a:ext cx="266724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9____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8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Fluorin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.998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,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3"/>
          <p:cNvSpPr/>
          <p:nvPr/>
        </p:nvSpPr>
        <p:spPr>
          <a:xfrm flipH="1">
            <a:off x="2362320" y="838080"/>
            <a:ext cx="3504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4"/>
          <p:cNvSpPr/>
          <p:nvPr/>
        </p:nvSpPr>
        <p:spPr>
          <a:xfrm flipH="1">
            <a:off x="2819160" y="1828800"/>
            <a:ext cx="1447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6"/>
          <p:cNvSpPr/>
          <p:nvPr/>
        </p:nvSpPr>
        <p:spPr>
          <a:xfrm flipH="1">
            <a:off x="3809520" y="3581280"/>
            <a:ext cx="2133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3200040" y="5275440"/>
            <a:ext cx="1219320" cy="58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019920" y="609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34340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mic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080040" y="27036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ment 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158160" y="3240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42008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 of electrons per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ny given element, all nuclei have the same number of protons, but the number of neutrons may va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toms of the same element wit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fferent atomic mas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alle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otop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4" descr="isotopehydrogen"/>
          <p:cNvPicPr/>
          <p:nvPr/>
        </p:nvPicPr>
        <p:blipFill>
          <a:blip r:embed="rId1"/>
          <a:stretch/>
        </p:blipFill>
        <p:spPr>
          <a:xfrm>
            <a:off x="2971800" y="3352680"/>
            <a:ext cx="4038480" cy="26812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S6.  Students will investigate the properties of solu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olution i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omogeneou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 composed of a solute and a solv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lute is the dissolved substance in a solution.  There is less of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l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alt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g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lvent is the dissolving medium.  You have more of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alt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so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lute vs Concentra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organisms are made up of one or more cell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ell is the basic unit of organization of all organism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cells come from other cells all ready in existenc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turation of Solu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ductivity of Solu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ectroly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ubstance whose water solution conducts electr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nic compou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as NaC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odium chloride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ids and b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as HC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hydrochloric acid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OH (sodium hydrox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udents will compare and contrast the phases of matter as they relate to atomic and molecular motion.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457200" y="1752480"/>
            <a:ext cx="8686440" cy="4495680"/>
            <a:chOff x="457200" y="1752480"/>
            <a:chExt cx="8686440" cy="4495680"/>
          </a:xfrm>
        </p:grpSpPr>
        <p:grpSp>
          <p:nvGrpSpPr>
            <p:cNvPr id="218" name="Group 4"/>
            <p:cNvGrpSpPr/>
            <p:nvPr/>
          </p:nvGrpSpPr>
          <p:grpSpPr>
            <a:xfrm>
              <a:off x="462240" y="1759680"/>
              <a:ext cx="8674920" cy="4480200"/>
              <a:chOff x="462240" y="1759680"/>
              <a:chExt cx="8674920" cy="4480200"/>
            </a:xfrm>
          </p:grpSpPr>
          <p:grpSp>
            <p:nvGrpSpPr>
              <p:cNvPr id="219" name="Group 5"/>
              <p:cNvGrpSpPr/>
              <p:nvPr/>
            </p:nvGrpSpPr>
            <p:grpSpPr>
              <a:xfrm>
                <a:off x="462240" y="1759680"/>
                <a:ext cx="933840" cy="1048320"/>
                <a:chOff x="462240" y="1759680"/>
                <a:chExt cx="933840" cy="1048320"/>
              </a:xfrm>
            </p:grpSpPr>
            <p:sp>
              <p:nvSpPr>
                <p:cNvPr id="220" name="Rectangle 6"/>
                <p:cNvSpPr/>
                <p:nvPr/>
              </p:nvSpPr>
              <p:spPr>
                <a:xfrm>
                  <a:off x="539280" y="1759680"/>
                  <a:ext cx="77976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t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Rectangle 7"/>
                <p:cNvSpPr/>
                <p:nvPr/>
              </p:nvSpPr>
              <p:spPr>
                <a:xfrm>
                  <a:off x="462240" y="1759680"/>
                  <a:ext cx="93384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2" name="Group 8"/>
              <p:cNvGrpSpPr/>
              <p:nvPr/>
            </p:nvGrpSpPr>
            <p:grpSpPr>
              <a:xfrm>
                <a:off x="1396440" y="1759680"/>
                <a:ext cx="2401920" cy="1048320"/>
                <a:chOff x="1396440" y="1759680"/>
                <a:chExt cx="2401920" cy="1048320"/>
              </a:xfrm>
            </p:grpSpPr>
            <p:sp>
              <p:nvSpPr>
                <p:cNvPr id="223" name="Rectangle 9"/>
                <p:cNvSpPr/>
                <p:nvPr/>
              </p:nvSpPr>
              <p:spPr>
                <a:xfrm>
                  <a:off x="1473480" y="1759680"/>
                  <a:ext cx="2247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ovement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Rectangle 10"/>
                <p:cNvSpPr/>
                <p:nvPr/>
              </p:nvSpPr>
              <p:spPr>
                <a:xfrm>
                  <a:off x="1396440" y="1759680"/>
                  <a:ext cx="240192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5" name="Group 11"/>
              <p:cNvGrpSpPr/>
              <p:nvPr/>
            </p:nvGrpSpPr>
            <p:grpSpPr>
              <a:xfrm>
                <a:off x="3798720" y="1759680"/>
                <a:ext cx="1883160" cy="1048320"/>
                <a:chOff x="3798720" y="1759680"/>
                <a:chExt cx="1883160" cy="1048320"/>
              </a:xfrm>
            </p:grpSpPr>
            <p:sp>
              <p:nvSpPr>
                <p:cNvPr id="226" name="Rectangle 12"/>
                <p:cNvSpPr/>
                <p:nvPr/>
              </p:nvSpPr>
              <p:spPr>
                <a:xfrm>
                  <a:off x="3875760" y="1759680"/>
                  <a:ext cx="17290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oximity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Rectangle 13"/>
                <p:cNvSpPr/>
                <p:nvPr/>
              </p:nvSpPr>
              <p:spPr>
                <a:xfrm>
                  <a:off x="3798720" y="1759680"/>
                  <a:ext cx="18831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8" name="Group 14"/>
              <p:cNvGrpSpPr/>
              <p:nvPr/>
            </p:nvGrpSpPr>
            <p:grpSpPr>
              <a:xfrm>
                <a:off x="5682600" y="1759680"/>
                <a:ext cx="3454560" cy="1048320"/>
                <a:chOff x="5682600" y="1759680"/>
                <a:chExt cx="3454560" cy="1048320"/>
              </a:xfrm>
            </p:grpSpPr>
            <p:sp>
              <p:nvSpPr>
                <p:cNvPr id="229" name="Rectangle 15"/>
                <p:cNvSpPr/>
                <p:nvPr/>
              </p:nvSpPr>
              <p:spPr>
                <a:xfrm>
                  <a:off x="5759640" y="1759680"/>
                  <a:ext cx="3300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hape/Volume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Rectangle 16"/>
                <p:cNvSpPr/>
                <p:nvPr/>
              </p:nvSpPr>
              <p:spPr>
                <a:xfrm>
                  <a:off x="5682600" y="1759680"/>
                  <a:ext cx="34545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1" name="Group 17"/>
              <p:cNvGrpSpPr/>
              <p:nvPr/>
            </p:nvGrpSpPr>
            <p:grpSpPr>
              <a:xfrm>
                <a:off x="462240" y="2808360"/>
                <a:ext cx="933840" cy="1333800"/>
                <a:chOff x="462240" y="2808360"/>
                <a:chExt cx="933840" cy="1333800"/>
              </a:xfrm>
            </p:grpSpPr>
            <p:sp>
              <p:nvSpPr>
                <p:cNvPr id="232" name="Rectangle 18"/>
                <p:cNvSpPr/>
                <p:nvPr/>
              </p:nvSpPr>
              <p:spPr>
                <a:xfrm>
                  <a:off x="539280" y="2808360"/>
                  <a:ext cx="77976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olid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Rectangle 19"/>
                <p:cNvSpPr/>
                <p:nvPr/>
              </p:nvSpPr>
              <p:spPr>
                <a:xfrm>
                  <a:off x="462240" y="2808360"/>
                  <a:ext cx="93384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4" name="Group 20"/>
              <p:cNvGrpSpPr/>
              <p:nvPr/>
            </p:nvGrpSpPr>
            <p:grpSpPr>
              <a:xfrm>
                <a:off x="1396440" y="2808360"/>
                <a:ext cx="2401920" cy="1333800"/>
                <a:chOff x="1396440" y="2808360"/>
                <a:chExt cx="2401920" cy="1333800"/>
              </a:xfrm>
            </p:grpSpPr>
            <p:sp>
              <p:nvSpPr>
                <p:cNvPr id="235" name="Rectangle 21"/>
                <p:cNvSpPr/>
                <p:nvPr/>
              </p:nvSpPr>
              <p:spPr>
                <a:xfrm>
                  <a:off x="1473480" y="2808360"/>
                  <a:ext cx="224748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ery little; slow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22"/>
                <p:cNvSpPr/>
                <p:nvPr/>
              </p:nvSpPr>
              <p:spPr>
                <a:xfrm>
                  <a:off x="1396440" y="2808360"/>
                  <a:ext cx="240192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7" name="Group 23"/>
              <p:cNvGrpSpPr/>
              <p:nvPr/>
            </p:nvGrpSpPr>
            <p:grpSpPr>
              <a:xfrm>
                <a:off x="3798720" y="2808360"/>
                <a:ext cx="1883160" cy="1333800"/>
                <a:chOff x="3798720" y="2808360"/>
                <a:chExt cx="1883160" cy="1333800"/>
              </a:xfrm>
            </p:grpSpPr>
            <p:sp>
              <p:nvSpPr>
                <p:cNvPr id="238" name="Rectangle 24"/>
                <p:cNvSpPr/>
                <p:nvPr/>
              </p:nvSpPr>
              <p:spPr>
                <a:xfrm>
                  <a:off x="3875760" y="2808360"/>
                  <a:ext cx="172908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ightly packed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Rectangle 25"/>
                <p:cNvSpPr/>
                <p:nvPr/>
              </p:nvSpPr>
              <p:spPr>
                <a:xfrm>
                  <a:off x="3798720" y="2808360"/>
                  <a:ext cx="188316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0" name="Group 26"/>
              <p:cNvGrpSpPr/>
              <p:nvPr/>
            </p:nvGrpSpPr>
            <p:grpSpPr>
              <a:xfrm>
                <a:off x="5682600" y="2808360"/>
                <a:ext cx="3454560" cy="1333800"/>
                <a:chOff x="5682600" y="2808360"/>
                <a:chExt cx="3454560" cy="1333800"/>
              </a:xfrm>
            </p:grpSpPr>
            <p:sp>
              <p:nvSpPr>
                <p:cNvPr id="241" name="Rectangle 27"/>
                <p:cNvSpPr/>
                <p:nvPr/>
              </p:nvSpPr>
              <p:spPr>
                <a:xfrm>
                  <a:off x="5759640" y="2808360"/>
                  <a:ext cx="3300480" cy="13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efinite shape and volume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2" name="Rectangle 28"/>
                <p:cNvSpPr/>
                <p:nvPr/>
              </p:nvSpPr>
              <p:spPr>
                <a:xfrm>
                  <a:off x="5682600" y="2808360"/>
                  <a:ext cx="3454560" cy="133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3" name="Group 29"/>
              <p:cNvGrpSpPr/>
              <p:nvPr/>
            </p:nvGrpSpPr>
            <p:grpSpPr>
              <a:xfrm>
                <a:off x="462240" y="4142880"/>
                <a:ext cx="933840" cy="1048320"/>
                <a:chOff x="462240" y="4142880"/>
                <a:chExt cx="933840" cy="1048320"/>
              </a:xfrm>
            </p:grpSpPr>
            <p:sp>
              <p:nvSpPr>
                <p:cNvPr id="244" name="Rectangle 30"/>
                <p:cNvSpPr/>
                <p:nvPr/>
              </p:nvSpPr>
              <p:spPr>
                <a:xfrm>
                  <a:off x="539280" y="4142880"/>
                  <a:ext cx="77976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iquid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5" name="Rectangle 31"/>
                <p:cNvSpPr/>
                <p:nvPr/>
              </p:nvSpPr>
              <p:spPr>
                <a:xfrm>
                  <a:off x="462240" y="4142880"/>
                  <a:ext cx="93384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6" name="Group 32"/>
              <p:cNvGrpSpPr/>
              <p:nvPr/>
            </p:nvGrpSpPr>
            <p:grpSpPr>
              <a:xfrm>
                <a:off x="1396440" y="4142880"/>
                <a:ext cx="2401920" cy="1048320"/>
                <a:chOff x="1396440" y="4142880"/>
                <a:chExt cx="2401920" cy="1048320"/>
              </a:xfrm>
            </p:grpSpPr>
            <p:sp>
              <p:nvSpPr>
                <p:cNvPr id="247" name="Rectangle 33"/>
                <p:cNvSpPr/>
                <p:nvPr/>
              </p:nvSpPr>
              <p:spPr>
                <a:xfrm>
                  <a:off x="1473480" y="4142880"/>
                  <a:ext cx="2247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ree to move; fast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8" name="Rectangle 34"/>
                <p:cNvSpPr/>
                <p:nvPr/>
              </p:nvSpPr>
              <p:spPr>
                <a:xfrm>
                  <a:off x="1396440" y="4142880"/>
                  <a:ext cx="240192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49" name="Group 35"/>
              <p:cNvGrpSpPr/>
              <p:nvPr/>
            </p:nvGrpSpPr>
            <p:grpSpPr>
              <a:xfrm>
                <a:off x="3798720" y="4142880"/>
                <a:ext cx="1883160" cy="1048320"/>
                <a:chOff x="3798720" y="4142880"/>
                <a:chExt cx="1883160" cy="1048320"/>
              </a:xfrm>
            </p:grpSpPr>
            <p:sp>
              <p:nvSpPr>
                <p:cNvPr id="250" name="Rectangle 36"/>
                <p:cNvSpPr/>
                <p:nvPr/>
              </p:nvSpPr>
              <p:spPr>
                <a:xfrm>
                  <a:off x="3875760" y="4142880"/>
                  <a:ext cx="17290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lose togeth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1" name="Rectangle 37"/>
                <p:cNvSpPr/>
                <p:nvPr/>
              </p:nvSpPr>
              <p:spPr>
                <a:xfrm>
                  <a:off x="3798720" y="4142880"/>
                  <a:ext cx="18831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2" name="Group 38"/>
              <p:cNvGrpSpPr/>
              <p:nvPr/>
            </p:nvGrpSpPr>
            <p:grpSpPr>
              <a:xfrm>
                <a:off x="5682600" y="4142880"/>
                <a:ext cx="3454560" cy="1048320"/>
                <a:chOff x="5682600" y="4142880"/>
                <a:chExt cx="3454560" cy="1048320"/>
              </a:xfrm>
            </p:grpSpPr>
            <p:sp>
              <p:nvSpPr>
                <p:cNvPr id="253" name="Rectangle 39"/>
                <p:cNvSpPr/>
                <p:nvPr/>
              </p:nvSpPr>
              <p:spPr>
                <a:xfrm>
                  <a:off x="5759640" y="4142880"/>
                  <a:ext cx="3300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o definite shape; definite volume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Rectangle 40"/>
                <p:cNvSpPr/>
                <p:nvPr/>
              </p:nvSpPr>
              <p:spPr>
                <a:xfrm>
                  <a:off x="5682600" y="4142880"/>
                  <a:ext cx="34545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41"/>
              <p:cNvGrpSpPr/>
              <p:nvPr/>
            </p:nvGrpSpPr>
            <p:grpSpPr>
              <a:xfrm>
                <a:off x="462240" y="5191560"/>
                <a:ext cx="933840" cy="1048320"/>
                <a:chOff x="462240" y="5191560"/>
                <a:chExt cx="933840" cy="1048320"/>
              </a:xfrm>
            </p:grpSpPr>
            <p:sp>
              <p:nvSpPr>
                <p:cNvPr id="256" name="Rectangle 42"/>
                <p:cNvSpPr/>
                <p:nvPr/>
              </p:nvSpPr>
              <p:spPr>
                <a:xfrm>
                  <a:off x="539280" y="5191560"/>
                  <a:ext cx="77976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Gas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7" name="Rectangle 43"/>
                <p:cNvSpPr/>
                <p:nvPr/>
              </p:nvSpPr>
              <p:spPr>
                <a:xfrm>
                  <a:off x="462240" y="5191560"/>
                  <a:ext cx="93384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8" name="Group 44"/>
              <p:cNvGrpSpPr/>
              <p:nvPr/>
            </p:nvGrpSpPr>
            <p:grpSpPr>
              <a:xfrm>
                <a:off x="1396440" y="5191560"/>
                <a:ext cx="2401920" cy="1048320"/>
                <a:chOff x="1396440" y="5191560"/>
                <a:chExt cx="2401920" cy="1048320"/>
              </a:xfrm>
            </p:grpSpPr>
            <p:sp>
              <p:nvSpPr>
                <p:cNvPr id="259" name="Rectangle 45"/>
                <p:cNvSpPr/>
                <p:nvPr/>
              </p:nvSpPr>
              <p:spPr>
                <a:xfrm>
                  <a:off x="1473480" y="5191560"/>
                  <a:ext cx="2247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ery fast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46"/>
                <p:cNvSpPr/>
                <p:nvPr/>
              </p:nvSpPr>
              <p:spPr>
                <a:xfrm>
                  <a:off x="1396440" y="5191560"/>
                  <a:ext cx="240192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47"/>
              <p:cNvGrpSpPr/>
              <p:nvPr/>
            </p:nvGrpSpPr>
            <p:grpSpPr>
              <a:xfrm>
                <a:off x="3798720" y="5191560"/>
                <a:ext cx="1883160" cy="1048320"/>
                <a:chOff x="3798720" y="5191560"/>
                <a:chExt cx="1883160" cy="1048320"/>
              </a:xfrm>
            </p:grpSpPr>
            <p:sp>
              <p:nvSpPr>
                <p:cNvPr id="262" name="Rectangle 48"/>
                <p:cNvSpPr/>
                <p:nvPr/>
              </p:nvSpPr>
              <p:spPr>
                <a:xfrm>
                  <a:off x="3875760" y="5191560"/>
                  <a:ext cx="17290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Very far apart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49"/>
                <p:cNvSpPr/>
                <p:nvPr/>
              </p:nvSpPr>
              <p:spPr>
                <a:xfrm>
                  <a:off x="3798720" y="5191560"/>
                  <a:ext cx="18831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4" name="Group 50"/>
              <p:cNvGrpSpPr/>
              <p:nvPr/>
            </p:nvGrpSpPr>
            <p:grpSpPr>
              <a:xfrm>
                <a:off x="5682600" y="5191560"/>
                <a:ext cx="3454560" cy="1048320"/>
                <a:chOff x="5682600" y="5191560"/>
                <a:chExt cx="3454560" cy="1048320"/>
              </a:xfrm>
            </p:grpSpPr>
            <p:sp>
              <p:nvSpPr>
                <p:cNvPr id="265" name="Rectangle 51"/>
                <p:cNvSpPr/>
                <p:nvPr/>
              </p:nvSpPr>
              <p:spPr>
                <a:xfrm>
                  <a:off x="5759640" y="5191560"/>
                  <a:ext cx="3300480" cy="104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o definite shape; fills contain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6" name="Rectangle 52"/>
                <p:cNvSpPr/>
                <p:nvPr/>
              </p:nvSpPr>
              <p:spPr>
                <a:xfrm>
                  <a:off x="5682600" y="5191560"/>
                  <a:ext cx="3454560" cy="104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7" name="Rectangle 53"/>
            <p:cNvSpPr/>
            <p:nvPr/>
          </p:nvSpPr>
          <p:spPr>
            <a:xfrm>
              <a:off x="457200" y="1752480"/>
              <a:ext cx="868644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4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       Liquid    G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3" descr="Matterstatesof matter"/>
          <p:cNvPicPr/>
          <p:nvPr/>
        </p:nvPicPr>
        <p:blipFill>
          <a:blip r:embed="rId1"/>
          <a:srcRect l="0" t="4823" r="0" b="0"/>
          <a:stretch/>
        </p:blipFill>
        <p:spPr>
          <a:xfrm>
            <a:off x="1447920" y="1752480"/>
            <a:ext cx="6248160" cy="44452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ma- the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tate of ma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s consist of freely moving charged particles, i.e., electrons and 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ning creates a jagged column of plas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n electric current is passed through neon gas, it produces both plasma and ligh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lain the process of half-life as related to radioactive decay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3296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me it takes for half of a radioactive element to decay is its half-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4" descr="2005 half life"/>
          <p:cNvPicPr/>
          <p:nvPr/>
        </p:nvPicPr>
        <p:blipFill>
          <a:blip r:embed="rId1"/>
          <a:stretch/>
        </p:blipFill>
        <p:spPr>
          <a:xfrm>
            <a:off x="1828800" y="2666880"/>
            <a:ext cx="5715000" cy="39290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s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lo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ance covered in a certain amount of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ocit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distance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ele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e at which velocity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leration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final velocity – initial veloc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ush or pu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d in New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bject at rest and an object moving at a constant velocity is being acted upon by a net force of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z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types of cel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ukaryotic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e nucleus and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, animals, protists, and fungi  are eukary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karyotic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k a nucleus and membrane bound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wton’s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Law of Mo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object in motion will stay in motion and an object at rest will stay at rest unless acted upon by an unbalanced fo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ert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eleration due to Gra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Earth, all objects fall with a constant acceleration of 9.80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absence of air resi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 other words, a falling object’s velocity increases by 9.8 m/s each second it fall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ss vs. We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—the amount of matter in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—the force on a body due to the gravitational attraction of another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ight changes based on location, mass does no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and Po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= Force x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Newton-meters or Jo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Work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Wat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disturbance that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nsmits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energy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ough a medium or empty sp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—the number of events (waves, vibrations, oscillations) p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ve Proper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length—the distance between a part of a wave to where the wave begins to repeat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4" descr="wave_crest"/>
          <p:cNvPicPr/>
          <p:nvPr/>
        </p:nvPicPr>
        <p:blipFill>
          <a:blip r:embed="rId1"/>
          <a:stretch/>
        </p:blipFill>
        <p:spPr>
          <a:xfrm>
            <a:off x="2743200" y="3505320"/>
            <a:ext cx="4343400" cy="295740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ectromagnetic Spectr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 waves do not require a medi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4" descr="electromag_spectrum"/>
          <p:cNvPicPr/>
          <p:nvPr/>
        </p:nvPicPr>
        <p:blipFill>
          <a:blip r:embed="rId1"/>
          <a:stretch/>
        </p:blipFill>
        <p:spPr>
          <a:xfrm>
            <a:off x="304920" y="1743120"/>
            <a:ext cx="830556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chanical 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 a med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nd is an example of a mechanical w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haviors of 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ion—wave bounces off barr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raction—wave changes direction as it moves from one medium to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raction—the bending of a wave around a barr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5" descr="reflection"/>
          <p:cNvPicPr/>
          <p:nvPr/>
        </p:nvPicPr>
        <p:blipFill>
          <a:blip r:embed="rId1"/>
          <a:stretch/>
        </p:blipFill>
        <p:spPr>
          <a:xfrm>
            <a:off x="5257800" y="1143000"/>
            <a:ext cx="3505320" cy="1581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171103077"/>
          <p:cNvPicPr/>
          <p:nvPr/>
        </p:nvPicPr>
        <p:blipFill>
          <a:blip r:embed="rId2"/>
          <a:stretch/>
        </p:blipFill>
        <p:spPr>
          <a:xfrm>
            <a:off x="5257800" y="2895480"/>
            <a:ext cx="2867040" cy="1838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Diffraction-Water-Waves"/>
          <p:cNvPicPr/>
          <p:nvPr/>
        </p:nvPicPr>
        <p:blipFill>
          <a:blip r:embed="rId3"/>
          <a:stretch/>
        </p:blipFill>
        <p:spPr>
          <a:xfrm>
            <a:off x="5334120" y="5105520"/>
            <a:ext cx="2819160" cy="142236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4723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increase the strength of an electromagnet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he number of coi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he number of bat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Picture 4" descr="electromagnet"/>
          <p:cNvPicPr/>
          <p:nvPr/>
        </p:nvPicPr>
        <p:blipFill>
          <a:blip r:embed="rId1"/>
          <a:stretch/>
        </p:blipFill>
        <p:spPr>
          <a:xfrm>
            <a:off x="1600200" y="380880"/>
            <a:ext cx="5105520" cy="4130640"/>
          </a:xfrm>
          <a:prstGeom prst="rect">
            <a:avLst/>
          </a:prstGeom>
          <a:ln w="0">
            <a:noFill/>
          </a:ln>
        </p:spPr>
      </p:pic>
      <p:sp>
        <p:nvSpPr>
          <p:cNvPr id="307" name="Line 6"/>
          <p:cNvSpPr/>
          <p:nvPr/>
        </p:nvSpPr>
        <p:spPr>
          <a:xfrm flipV="1">
            <a:off x="5562720" y="388620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the parts of cel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passage of materials into and out of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ontrols cell functions; DNA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cleolus –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duces ribos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cell energ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ibos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protein synthe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cuo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cell stor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ysosom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cell diges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gnetic fiel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764240" y="2652480"/>
            <a:ext cx="348912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gnetic field i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tronge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he lines ar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ose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4" descr="magnetic field"/>
          <p:cNvPicPr/>
          <p:nvPr/>
        </p:nvPicPr>
        <p:blipFill>
          <a:blip r:embed="rId1"/>
          <a:stretch/>
        </p:blipFill>
        <p:spPr>
          <a:xfrm>
            <a:off x="609480" y="2590920"/>
            <a:ext cx="3867120" cy="318924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parts of cells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ndoplasmic reticulum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hemical synthesi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lgi apparatus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ackages proteins for secre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ll wall (plants only)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igid outer wall; nonliv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loroplasts (plants only)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photosynthe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ntrioles (animals only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ell divis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5000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e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animalcell2D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plantcell2d"/>
          <p:cNvPicPr/>
          <p:nvPr/>
        </p:nvPicPr>
        <p:blipFill>
          <a:blip r:embed="rId1"/>
          <a:stretch/>
        </p:blipFill>
        <p:spPr>
          <a:xfrm>
            <a:off x="685800" y="244440"/>
            <a:ext cx="7848720" cy="6276960"/>
          </a:xfrm>
          <a:prstGeom prst="rect">
            <a:avLst/>
          </a:prstGeom>
          <a:ln w="0">
            <a:noFill/>
          </a:ln>
        </p:spPr>
      </p:pic>
    </p:spTree>
  </p:cSld>
  <p:transition advTm="4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1:41:24Z</dcterms:created>
  <dc:creator>e198600431</dc:creator>
  <dc:description/>
  <dc:language>en-US</dc:language>
  <cp:lastModifiedBy>vci</cp:lastModifiedBy>
  <dcterms:modified xsi:type="dcterms:W3CDTF">2012-03-14T11:53:30Z</dcterms:modified>
  <cp:revision>16</cp:revision>
  <dc:subject/>
  <dc:title>Georgia High School Graduation Test</dc:title>
</cp:coreProperties>
</file>